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026-2B6E-43E5-82A0-4CA265AC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EDB-BA67-4817-B94E-CC562F4B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C74-0559-4F51-BF96-2A6708A1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468-8FE0-4156-8ECA-84B90DED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EACD-D4DF-49EC-84FC-5B9BF6FD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265-C73E-4967-AEB3-43F8832B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7AA-0477-43D9-9ACF-5834A911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2BD-8396-4772-B65D-30AA2490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68D-CC82-4F12-9518-16E05EFD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1B3-E5A2-4AAF-896B-9DA1181A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720-D9EA-45FC-ABC4-E0BBC18B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2162-F6F3-490F-A9BC-0E04EDF6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49AB-AEA0-49CF-8210-4ADC0A9DC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66880" y="380988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 Lincoln was a great president! He helped people get away from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4038840" cy="306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971800" y="4038480"/>
            <a:ext cx="3013200" cy="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ident. He was in the war. He lived in the Whit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1732, died in 1799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6:51:36Z</dcterms:created>
  <dc:creator>smuser</dc:creator>
  <dc:description/>
  <dc:language>en-US</dc:language>
  <cp:lastModifiedBy>smuser</cp:lastModifiedBy>
  <dcterms:modified xsi:type="dcterms:W3CDTF">2010-02-01T18:51:28Z</dcterms:modified>
  <cp:revision>2</cp:revision>
  <dc:subject/>
  <dc:title>Comparing Presidents</dc:title>
</cp:coreProperties>
</file>